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C7F-917F-4E5D-AAC7-1C8EA017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7ED-D72D-46A0-BD6B-D54752FC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67D-502F-478E-AA46-58ED42C0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6C4-8F8C-4CAD-9831-35954FD2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FD3-7398-414B-B3F1-D38F18FC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201-1E56-4E27-8903-F78682F7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2D6-D3F1-409A-AB87-15FB2B71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29A-A4E1-4088-B870-3BC7D460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202-0A7D-4575-ABC3-7EB5FD2C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CC6-4D82-464A-AE3B-83132181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D3C-350B-421A-93DB-D9941589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935-9A9E-461E-858B-B6E83816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C35-5023-4EAE-A16B-15DF128C5C4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16 Keď viem, že Pán Bo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mňa rá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án vždy o mňa db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spím, či bd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pečne v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tále o mňa db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o mň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že prísť úzkosť, hrôzy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musím sa b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premôcť vie aj hrobu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musím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án vždy o mňa db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spím, či bd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pečne v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tále o mňa db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o mňa s láskou db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Pán Boh má mň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musím sa bá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môj úkryt, spásy hra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musím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án vždy o mňa db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spím, či bd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pečne v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tále o mňa db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o mň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by mi hrozil nepria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musím sa b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o mnou je môj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musím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án vždy o mňa db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spím, či bd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pečne v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tále o mňa db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o mň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, čo mi treba v každý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musím sa b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čuje mojich prosieb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musím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42:09Z</dcterms:modified>
  <cp:revision>23</cp:revision>
  <dc:subject/>
  <dc:title>Je veľký náš Pán, on slávy je Kráľ Nech do všetkých strán  spev vrúcnych znie chvál.</dc:title>
</cp:coreProperties>
</file>